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1C76-4334-4C07-A94C-83E321752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0C0A-8FB8-40D1-BBB3-51C682A5B0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0265-6C7F-4031-AA8C-C6BFD35015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B216-3574-4D71-86C2-C6989C48E3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3BF6-DC65-4A95-B78C-E247A16F2F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6E38-80D5-47BF-93F9-52AC0820C1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7996-5FC5-4505-B48A-A33249E0B7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2C8-2944-45CA-84C0-DB88609D50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8C6A-0116-488E-9522-C74271BDC7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4039-935D-4574-BB4A-AC8165E39E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70F2-2EA4-42C1-BB67-5C3E2793E2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5131-A1F0-42D9-B38B-4C255F8CAC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C964-C7B3-4624-A59C-3CF96ECC75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D600-1339-4322-8F82-C52C24FD33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5386-92E8-4647-BA58-754B0AB8E0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291F-8935-409C-BA5D-9399B29D26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0D8B-5762-403B-8177-4A42E96830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6339-F7E9-4E55-A49C-9BB50A2D84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C1F9-BAEB-4EDB-87E6-6630518AA0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8C50-C9C8-449F-B24D-D3026238CC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9BFB-7C17-457D-86A4-8387B40DFA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5C2F-873B-47CF-A70A-EBC601D0BA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7281-A85B-4B65-AC8C-63B4419D1E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2903-0610-4F93-826A-A08DDBFF6E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D0DC-2C70-43CF-80ED-BBAB95991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1598-28A3-49CD-99C0-44EDFAE5B0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9B53-9F0D-4DE6-BB2C-6EC4091EDC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2BC3-2DDF-4F04-9DE4-C15F6BEAA0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8BA7-312E-403B-B44A-29D5BC31A3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DBDB-F427-454B-AFB1-8656E13CCE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1008-0876-47EC-9E26-5F3198F927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3A21-7DB8-4CED-9426-E6AFCBC5EB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078A-FE05-418D-B0C2-48736A746B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89B6-B529-4AB5-8992-F8E6309B86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05AC-28FD-4D72-889C-E08703BAB3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382F-8FAB-42E8-9F7C-4C7DA79956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541C-80EC-44A3-B06A-5B10D0B5F6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5688-4326-4C00-B50A-C267730663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CB1C-ED26-4CFE-B339-DC21618F5C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C60F-816B-4DB1-BCA4-2CB384CE0C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E63-63E0-4707-A678-1467853F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DF2-100F-4AB0-83AD-55A515BD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BD7-7AFC-4F5F-931C-5892D403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A127-A937-4AF6-8FA1-340F6B63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1D2-44F6-46B3-A12D-371D5904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831-E8A1-4B5B-A1A3-01F9ED2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147-C772-405E-9753-AC1C2BDD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B36-AA91-489B-A2DA-1CFD696B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84F-922D-4824-B06F-44A41938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D7A1-7827-4F77-85D8-3198664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AC1-CB64-4508-A386-15489A92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EDA-8577-450D-862D-F80C0263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BFDF-98A7-45E4-9815-1119A4B1C49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 Numb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1" name="Object 4"/>
          <p:cNvGraphicFramePr/>
          <p:nvPr/>
        </p:nvGraphicFramePr>
        <p:xfrm>
          <a:off x="3774960" y="2739960"/>
          <a:ext cx="159228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4960" y="2739960"/>
                    <a:ext cx="159228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1252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0.45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4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3352680" y="2514600"/>
          <a:ext cx="231948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514600"/>
                    <a:ext cx="23194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1.75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3276720" y="2514600"/>
          <a:ext cx="254772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514600"/>
                    <a:ext cx="25477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19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ahoma"/>
              </a:rPr>
              <a:t>1.23178…</a:t>
            </a:r>
            <a:endParaRPr b="0" lang="en-US" sz="1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27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3200400" y="2590920"/>
          <a:ext cx="262404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90920"/>
                    <a:ext cx="262404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2.48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24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2819520" y="2365200"/>
          <a:ext cx="2819160" cy="25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365200"/>
                    <a:ext cx="2819160" cy="25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512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3390840" y="1981080"/>
          <a:ext cx="114480" cy="1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0840" y="1981080"/>
                    <a:ext cx="1144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"/>
          <p:cNvGraphicFramePr/>
          <p:nvPr/>
        </p:nvGraphicFramePr>
        <p:xfrm>
          <a:off x="3809880" y="2057400"/>
          <a:ext cx="14162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057400"/>
                    <a:ext cx="1416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36:57Z</dcterms:created>
  <dc:creator>Parkland High School</dc:creator>
  <dc:description/>
  <dc:language>en-US</dc:language>
  <cp:lastModifiedBy>test</cp:lastModifiedBy>
  <dcterms:modified xsi:type="dcterms:W3CDTF">2014-09-05T17:51:37Z</dcterms:modified>
  <cp:revision>2</cp:revision>
  <dc:subject/>
  <dc:title>Real Numbers </dc:title>
</cp:coreProperties>
</file>